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7C2-9DD7-4AB2-9566-F85E85D7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EBA-6D4F-46DC-8F89-5B2EA6C7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4D9-616A-4FB6-8E7E-ACB58152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30F-F168-45AB-B4C1-DA6E4C76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BC35-4EF9-4CF1-A5A9-C6F09EC9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06B7-A366-4F16-8B09-225F8465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7CB8-D34A-4B92-8ABD-B4DFD346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6A99-F82E-441B-83A1-DF40FEFA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508D-A42E-4977-8B91-FE995C76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0436-D5F2-427E-89F4-71C2512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8071-87BA-4A35-BF6C-96B7E36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FC6-7A3D-44B9-8927-D7E57071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8A55-8337-4891-A574-8176221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0F2A-D9E5-4EDB-81EB-D0FD190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BB75-832B-4A53-A2C4-66308A36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2B77-E719-4F92-A676-09229913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7F54-23D8-45DE-85CA-9414D161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2DF-7E7F-420C-B7C6-40C0DD47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C83-7D36-476E-B1E2-986F80B0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9C2-2BE8-4D6F-BD93-C1626ABE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A4D-D093-486E-BF08-6AD5CCDE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AB9-A62C-42EE-B118-6A262E36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987-2442-49A8-85CC-08158D81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70F-CE1C-4D50-929C-D44DA54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8444-25AF-4789-8AB0-63AE734002FF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84B2-586F-405E-89DA-E2088C9A99E0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epldesk%20ticket.xls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epldesk%20ticket.xls" TargetMode="External"/><Relationship Id="rId2" Type="http://schemas.openxmlformats.org/officeDocument/2006/relationships/hyperlink" Target="http://magic75.nycenet.edu/selfsupport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ustomer Servic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Working with the DOE Help Desk 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s  computer I’m using  to demonstrate has a problem that cannot be fixed immediately - the hard drive crash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examine it to collect the information required to complete and submit a helpdesk ticke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fill out the form togeth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54864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r the next 20 minutes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xamine the computers at your desk to collect information to submit a helpdesk ticke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mplete the </a:t>
            </a: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Excel form 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as required to report an incid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1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:. Pair up into groups of two</a:t>
            </a: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2: Use the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cel Magic ticket document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4: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amine equipment at your desk and locate the information requested on the form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Complete the form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5: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udents will repeat exercise until all the problems listed have been “reported” on the form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gather information on a problem and how to report it to the helpdes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look at a few of the forms you completed  to be submitted to DOE helpdesk and any problems and good practices discovered while reporting the probl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problem did you repor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ere you able to find the necessary information easily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ifficult was it to complete the for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long did it take approximately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nswers: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some technology problems that require a DOE technician to visit the school to complete the repair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information do I need to have on hand before I contact the DOE Helpdesk using the MAGIC system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29718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eachers and students encounter various technical problems in the classro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ome problems are simple and easy to fix but some require special tools or softwa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Many equipment problems require a technician's visit from the DOE helpdesk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he most efficient way to submit the problem and get a quick response is by using the MAGIC system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oday I am going to show you how to gather the necessary information and submit it to the helpdesk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talk about some problems that we encounter in the classroom and school with our computer equip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nk about which computer problems would need to be fixed by a technician from the helpdesk and make a list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5105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amiliar Sight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2158920" cy="2361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306200">
            <a:off x="3962160" y="1523880"/>
            <a:ext cx="22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’m on fire!!!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776320" cy="342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20643000">
            <a:off x="686160" y="540972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Proxy goes away!!!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91320" y="533520"/>
            <a:ext cx="2776320" cy="2971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20439600">
            <a:off x="6172200" y="30477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I can’t get anything to work!!??#$&amp;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48320" y="4572000"/>
            <a:ext cx="1981080" cy="154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21126600">
            <a:off x="6095880" y="4266720"/>
            <a:ext cx="1428840" cy="99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9880" y="60199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printer is about to go down!!!!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aptop Issu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eeds a technicia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can fix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 will now demonstrate what information is necessary to fill out a </a:t>
            </a: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elpdesk Magic ticket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 will then access the website and show you how to fill out the form. (A teacher's confidential e-mail login is required to access Magic).</a:t>
            </a:r>
            <a:br>
              <a:rPr sz="3200"/>
            </a:b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2"/>
              </a:rPr>
              <a:t>http://magic75.nycenet.edu/selfsuppor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ogin Pag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5534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3T16:46:46Z</dcterms:modified>
  <cp:revision>19</cp:revision>
  <dc:subject/>
  <dc:title>Workshop Title</dc:title>
</cp:coreProperties>
</file>